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441-B764-4FD3-BCBE-2D5D13E8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89F-67E2-4BA0-93DB-78DC5DA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BEA-C9F6-47A6-8AF8-23DA3AA5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C92-ED44-45B3-A5D2-FD056AD3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9C3-D924-4833-AEB4-048D4F0A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704-5FCB-40C7-983E-D757891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3CA-5386-409E-BFDE-28ED99FE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956-3F69-43F2-AF53-BE8B8626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250-0FD3-4A89-83FD-B98494E6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407-53D0-40A7-BA51-162F3ED1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80C-84A9-43F4-8B23-8CB858D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5E8-92B3-45DF-B463-0352DD5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23A-C466-48AB-A75D-B39142CE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Summer Unit P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By: Karla Andrea Val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WILL YOU CONDUCT THIS ACTIVITY? IN THE SUMMER TIME WHERE CHILDREN DON’T HAVE CLASS? – OF COURSE NOT! :d THIS UNIT WILL JUST BE A PREPARATION FOR THEM FOR SUMMER. This unit will be implemented during th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rading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What is your simple science experiment that you have plan to conduct that is related to summer? Is that the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Experiment: Water and Air Make Bubbles? How it is related to summ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- YE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you include the stimulation of your students to act upon global warming issue, what activities you will do to stimulate th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Have a nature walk :D OR CONDUCT AND EXPERIMENT “ICE C AND SAL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plan is good and very vivid. It caters the 3 important domains that the student should lea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plan is very organize and is very fun and stimulating for children. The topic is very informative and the activities deals more about the importance of experiential lea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ges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ctivities are absolutely good and developmentally appropriate for the children. Children will do lots of things and so i think the teacher should choose the right effective assessment tools to assessed student’s capabilities if they have mastered the topic or n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uhaus 93"/>
              </a:rPr>
              <a:t>Unit 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Summer is the favorite season of most children. As summer approaches, we will be starting a unit on the season. Through this unit, the children will become more aware of summer weather, activities, food and clo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Goals for the Pup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rough this unit, the children will be more awar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Summer weather, concepts, activities for recreation, food and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Global issue: 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Exhibit higher 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auhaus 93"/>
              </a:rPr>
              <a:t>Teacher’s Goa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t the end of the unit, the teacher should have achieve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Highlight summer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ke the students exhibit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erlin Sans FB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centu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nculcate moral values and let children make sound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Stimulate students to act upon the global phenomenon;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he 21st century skills that the pupils will be exhibiting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duct a simple science experiment related to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dentify and experience summe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Effective Use of Real-World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Practice simple cooking skills (popsicle juice)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uhaus 93"/>
              </a:rPr>
              <a:t>Higher Order Thinking and Sound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Participate in decision making and in planning f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Global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Be aware of the new summer trend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Teaming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Collaborate with teacher in making the weblog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auhaus 93"/>
              </a:rPr>
              <a:t>Unit Objective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Define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Name common activities done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List the type of clothing people wear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Sing summer-themed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Show appreciation for summer and its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ke an inference about the experiment, “Water and Air Make Bub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ke a fruit juice popsic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Participate in the culminating activity; picnic at the p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FQ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Essential Questio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: Why do things ch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Unit Questions: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y do seasons ch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Content Question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is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y do we need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happens during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clothes are appropriate for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are the different weathers of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activities can we do in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How can we make fruit juice popsicle sti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How is summer significant in our live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Expected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cience Experiment: Water and Air Make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Cooking: Popsicle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eac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eblog- where parents can view their child’s activities and progress in school. Also, they can comment and suggest more activities, etc. which can build strong teacher-paren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40:20Z</dcterms:created>
  <dc:creator>Student's</dc:creator>
  <dc:description/>
  <dc:language>en-US</dc:language>
  <cp:lastModifiedBy>Student's</cp:lastModifiedBy>
  <dcterms:modified xsi:type="dcterms:W3CDTF">2011-01-13T14:40:58Z</dcterms:modified>
  <cp:revision>7</cp:revision>
  <dc:subject/>
  <dc:title>Summer Unit Plan</dc:title>
</cp:coreProperties>
</file>